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910-5C98-49FC-B64E-633247CB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437-5F86-4226-B4D9-06698CB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C42-66DF-415D-AEDA-999F3E0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D38-90F3-4AFD-B61C-0269032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665-61CC-46CC-BE33-F60D193D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F0D-1C1A-4DD5-AAB4-EC635A66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D0A-17A0-4307-9A5B-4CE321F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202-F771-49BF-8622-F0C68B5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09A-CA97-4B64-9AF4-233F9F07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3A8-B5D4-4566-A8F0-911D871E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7FF-826C-4460-8B38-FBDD9B92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929-58D2-44AA-AFCB-B53CA883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600" y="112320"/>
            <a:ext cx="9078840" cy="398880"/>
          </a:xfrm>
          <a:prstGeom prst="rect">
            <a:avLst/>
          </a:prstGeom>
          <a:noFill/>
          <a:ln cap="rnd" w="7632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ff"/>
                </a:solidFill>
                <a:latin typeface="华文行楷"/>
                <a:ea typeface="华文行楷"/>
              </a:rPr>
              <a:t>第一章  绪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花4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花3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葉子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3345-3214-464F-9E6A-E2B13606F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7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一章  绪论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1.1  微型计算机控制系统的组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1.2  微型计算机控制系统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1.3  微型计算机控制系统的发展趋势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操作指导控制系统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03560" y="5712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指导控制系统组成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直接数字控制系统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D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13320" y="6094080"/>
            <a:ext cx="25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-6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控制系统原理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003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1523880"/>
          <a:ext cx="457200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45720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计算机监督系统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监督系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y Computer Contr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有两种不同的结构形式。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调节器，另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系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调节器控制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系统原理图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系统原理图，如下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76840" y="6171480"/>
            <a:ext cx="285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1-7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C+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模拟调节器控制系统原理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650880"/>
            <a:ext cx="8001000" cy="544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03520" y="6184800"/>
            <a:ext cx="31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-8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C+DC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控制系统原理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分级计算机控制系统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级计算机控制系统是一个四级系统，各级计算机的功能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置控制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车间监督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厂集中控制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企业管理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541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9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级计算机控制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792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71600"/>
          <a:ext cx="6248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248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1．可编程控制器（</a:t>
            </a:r>
            <a:r>
              <a:rPr b="1" lang="en-US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PLC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2．采用新型的控制系统（集散控制系统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3．人工智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4．神经网络控制系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8380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3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型计算机控制系统的发展趋势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可编程控制器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传统的继电器控制相比，具有如下一些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抗干扰能力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适应性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编程直观、简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功能完善，接口功能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采用新型的控制系统（集散控制系统）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散控制系统是分散型综合控制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istributed Control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分散型微处理器控制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Microprocessor Control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简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集散控制系统的组成框图。它以微型计算机为核心，把微型机、工业控制计算机、数据通信系统、显示操作装置、输入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通道、模拟仪表等有机地结合起来，采用组合组装式结构组成系统，为实现工程大系统的综合自动化创造了条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193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1295280"/>
          <a:ext cx="6705360" cy="40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0536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853360" y="556020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散系统组成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型计算机控制系统是由计算机（工业控制计算机）和工业对象两大部分组成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出了按偏差进行控制的闭环控制系统框图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57920" y="58647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闭环控制系统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型计算机控制系统的组成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7668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3809880"/>
          <a:ext cx="754380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438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人工智能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工智能是用计算机模拟人类大脑的逻辑判断功能，其中具有代表性的两个尖端领域是专家系统和机器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专家系统即计算机专家咨询系统，是一个存储了大量专门知识的计算机程序系统。不同的专家系统将不同领域专家的知识，以适当的形式存放于计算机中。根据这些专家知识，专家系统可以对用户提出的问题做出判断和决策，以回答用户的咨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人是一种能模拟人类智能和肢体动作的装置，从本世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代微处理机问世以来，机器人便逐渐涉足于各工业生产领域和科学研究领域。目前已出现的机器人可以分为两类，工业机器人和智能机器人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神经网络控制系统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外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掀起了神经网络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ural Networ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的研究和应用热潮，我国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也开始了这方面的研究。由于神经网络的特点（大规模的并行处理和分布式的信息存储，良好的自适应性、自组织性和很强的学习功能、联想功能及容错功能），使它的应用越来越广泛，其中一个重要的方面是智能控制，包含机器人控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54817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给出了开环控制系统框图。它与闭环控制系统不同，它的控制器直接根据给定信号去控制被控对象工作。被控制量在整个控制过程中对控制量不产生影响。与闭环控制系统相比，它的控制性能较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57920" y="56361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环控制系统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072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4191120"/>
          <a:ext cx="815328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91120"/>
                    <a:ext cx="81532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把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控制器用微型计算机来代替，就可以构成微型计算机控制系统，其基本框图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在微型计算机控制系统中，只要运用各种指令，就能编出符合某种控制规律的程序。微处理器执行这样的程序，就能实现对被控参数的控制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2320" y="563616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机控制系统基本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804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3657600"/>
          <a:ext cx="800100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57600"/>
                    <a:ext cx="8001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硬件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型计算机控制系统的硬件一般是由微型计算机、外部设备、输入输出通道和操作台等组成，如下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48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371600"/>
          <a:ext cx="754380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54380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646360" y="5712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型计算机控制系统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硬件组成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微型计算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外部设备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输出通道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操作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．计算机控制系统的软件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是指能完成各种功能的计算机程序的总和。它是微型计算机控制系统的神经中枢，整个系统的工作都是在程序的指挥下进行协调工作的。软件通常分为两大类：一类是系统软件，另一类是应用软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型计算机控制系统分类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1．操作指导控制系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2．直接数字控制系统（</a:t>
            </a:r>
            <a:r>
              <a:rPr b="1" lang="en-US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DDC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3．计算机监督系统（</a:t>
            </a:r>
            <a:r>
              <a:rPr b="1" lang="en-US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SCC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6" action="ppaction://hlinksldjump"/>
              </a:rPr>
              <a:t>4．分级计算机控制系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4:02:10Z</dcterms:created>
  <dc:creator>新人电脑</dc:creator>
  <dc:description/>
  <dc:language>en-US</dc:language>
  <cp:lastModifiedBy>li</cp:lastModifiedBy>
  <dcterms:modified xsi:type="dcterms:W3CDTF">2002-02-01T06:12:30Z</dcterms:modified>
  <cp:revision>24</cp:revision>
  <dc:subject/>
  <dc:title>第一章  绪论 </dc:title>
</cp:coreProperties>
</file>